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690A-3291-43EA-9CA7-DDAFFCE597C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952A-10A5-4521-BBAA-77E93371718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8731-F77F-45CC-BBF8-C21DE0C6147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2E94-1AC6-41CF-BB1B-CDA09773F0A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7AF2-0AC3-4BC3-BE1D-5A67FCCCB67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184E-FE9E-49CD-B98E-5C54743AA76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CFC3-75AC-412D-8741-7F1134E136E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9914-1F6C-47A4-A3EF-377507EC42E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E776-7826-472E-AC83-14E2CE3417C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238B-A0D3-483F-A8B3-B780006AD27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C5DC-5E74-4F66-AC5F-2DC6C97850D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48C9-C854-48F9-8BD6-432827E9DEC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4749-B0EF-44EF-A391-C82C76FF7AF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66E8-300F-4A2E-A11F-61247A1FA5D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4449-32D8-413D-B2D2-D37067E312B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65D4-65C1-4CE6-88B7-B23362157FC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F28C-626C-400C-8968-26FFF01F806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7DA5-83F1-4D4F-B67D-6CD1A40AA8A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8D74-FCF9-40A8-A4EB-31AA0E4A1F0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43B2-70FE-49C8-A2BB-89929888EF1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8602-7643-4486-9662-6788591171D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0CCD-F640-4EAC-8F61-6F4A96422F6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3F4F-36C2-4033-9658-322911AAF49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2EA1-6D63-421A-BBFB-8254DAD3D8A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D37A-7202-4ADB-9C3E-37DC9429F98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CDF2-E786-4BEB-AB22-580A730CAB3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5E64-9447-429A-A01D-B4D92161CF7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794A-AF8A-4805-9213-52195D7FEC1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FADD-DED5-4EE4-A5E2-302E3FC2D06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CF69-AC8C-4C1B-919F-7D7B7027870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8DD7-A239-4F92-85F0-16B1399F729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E82D-DF75-4FD7-BC91-26A1A3DAD78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3079-392A-40A8-9A6A-6AD6F425E77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D8E6-0EBA-4178-B0D3-9CEAA9385D8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014D-6C5E-449D-B5E8-9B11EB233DF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E486-F0DE-4984-9A66-33050321DEC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C944-42C6-4A08-9EBD-5870E88C6BA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F64C-CF1E-416B-A6F9-E5A55DF4B5D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0E50-75E0-4E4E-BEBC-FAAEEF2408F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EF77-3EE1-4C6E-A26C-C29DB59DD3C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0B7-BF3D-4FCC-B2C5-568419D8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AA86-4273-4D1C-9333-DBF7B6E3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4653-A8D5-409B-8E40-3EFF1A00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B235-FF39-4F4E-A827-64D1FF60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768F-03BC-4AE8-88C7-3A4C8643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34C-62E1-468D-B726-A8E1A450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C2D-B2F3-4EF3-98A6-0940A188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449E-D831-4FFD-AE83-9C3C1119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34C-234F-4E8E-A84C-FBACC066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066E-67FA-4ECF-8365-161F8968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612A-E828-4DDE-ACA5-6D679BFD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A6EA-235A-4252-AD13-C63E6CEB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D3BB-B558-4F92-9C80-521A27ED63A1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317920"/>
            <a:ext cx="6381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하려고 하다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원하다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衣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īf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옷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shuāng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쌍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é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신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iá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장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裤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ù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바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张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ā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장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i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本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ěn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공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书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ūbā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책가방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钱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i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ǎ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服务员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fúwùyuá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종업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ǎ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백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10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u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화폐 단위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太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너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贵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비싸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便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iány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값이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싸다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怎么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728760"/>
            <a:ext cx="626436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000000"/>
                </a:solidFill>
                <a:latin typeface="Arial"/>
              </a:rPr>
              <a:t>zěnmeyàng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어때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152320"/>
            <a:ext cx="63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Arial"/>
              </a:rPr>
              <a:t>자루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2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Arial"/>
              </a:rPr>
              <a:t>圆珠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yuánzhūbǐ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볼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u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18328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위안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화폐 단위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벌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毛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á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18328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마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화폐 단위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ǎ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18328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자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화폐 단위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裙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ún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치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uǎ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짧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袜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wà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양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本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ě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권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黑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ēisè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검은색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黄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huángsè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노란색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i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천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10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打折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ǎzhé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할인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旗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ípá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317920"/>
            <a:ext cx="6381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치파오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중국전통의상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颜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ánsè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색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红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óngsè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빨간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ē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마시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á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차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面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miànbāo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빵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6:53:48Z</dcterms:created>
  <dc:creator>System</dc:creator>
  <dc:description/>
  <dc:language>en-US</dc:language>
  <cp:lastModifiedBy>System</cp:lastModifiedBy>
  <dcterms:modified xsi:type="dcterms:W3CDTF">2014-01-24T07:56:08Z</dcterms:modified>
  <cp:revision>7</cp:revision>
  <dc:subject/>
  <dc:title>슬라이드 1</dc:title>
</cp:coreProperties>
</file>